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CA5-D368-4D93-8966-3008B9B8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B12-718A-4DB7-8C6F-9D20D294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028-7E22-45EE-A660-0729768E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CF5-4AC2-41CE-AEAF-12BD8180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862-840A-4FFA-89A2-CF631FD9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4B9-D1ED-4EA0-AFE0-D58F03E5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70E-B9D5-4F02-969D-F770904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92E-DCA1-4223-8FF9-9C1BA5CC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92C-A984-4B58-92BE-839155CC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70A-7091-482C-AF0E-59BAB42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4C4-52C2-4605-90E1-CC7082D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6AC-139C-4DE5-B99E-72FEF7E3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1F0D-EF76-4EDC-BBFA-7FCB81E22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7086600" cy="632448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6095880"/>
            <a:ext cx="0" cy="1264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467480" y="3429000"/>
            <a:ext cx="16611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914400" y="0"/>
            <a:ext cx="685800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914400" y="0"/>
            <a:ext cx="6781680" cy="678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1219320"/>
            <a:ext cx="9677520" cy="3975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895480" y="0"/>
            <a:ext cx="289584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0" y="1709640"/>
            <a:ext cx="9144000" cy="3619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55960" y="0"/>
            <a:ext cx="277488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4200">
            <a:off x="5257440" y="358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ots ini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733600">
            <a:off x="5867640" y="266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110400">
            <a:off x="4306320" y="1180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mots- v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207000">
            <a:off x="4608720" y="5218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-ha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90400">
            <a:off x="5333400" y="457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1434200">
            <a:off x="685440" y="274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aî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213200">
            <a:off x="380520" y="380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05800">
            <a:off x="2128680" y="50288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4247000">
            <a:off x="2267640" y="123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815800">
            <a:off x="1065960" y="456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yr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3200">
            <a:off x="1143360" y="205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177600">
            <a:off x="2683080" y="5007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710400">
            <a:off x="2820600" y="114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75600">
            <a:off x="3643920" y="5114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550400">
            <a:off x="3430440" y="121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noms pro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0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84280" cy="17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2985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6336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1255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46:40Z</dcterms:created>
  <dc:creator>Marianne NEY</dc:creator>
  <dc:description/>
  <dc:language>en-US</dc:language>
  <cp:lastModifiedBy>Marianne NEY</cp:lastModifiedBy>
  <cp:lastPrinted>2002-01-04T16:53:17Z</cp:lastPrinted>
  <dcterms:modified xsi:type="dcterms:W3CDTF">2002-01-04T17:04:43Z</dcterms:modified>
  <cp:revision>7</cp:revision>
  <dc:subject/>
  <dc:title>Aucun titre de diapositive</dc:title>
</cp:coreProperties>
</file>